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894-BA5F-4A8E-B5FE-0E5036CDC3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ys of the Worl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Brief Global Hist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irst Edi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Rise and Fall of World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bert W. Stray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lobal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Revolu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Path to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ssia: Revolution in a Single Ye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 Prolonged Revolutionary Strug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ilding Socialism in Two Cou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t Femi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ism in the Country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sm and Industri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earch for Enem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t versus Wes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lobal Divide and a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litary Conflict and the Cold W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uclear Standoff and Third World Rival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United States: Superpower of the West, 1945–197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mmunist World, 1950s–1970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ing Pat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the End of Commu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ina: Abandoning Communism and Maintaining the Par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oviet Union: The Collapse of Communism and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pter 2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Rise and Fall of World Communism, 1917–Pres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1 Russia in 1917 (p. 66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2 The Rise of Communism in China (p. 66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3 The Global Cold War (p. 67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p 22.4 The Collapse of the Soviet Empire (p. 686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in (p. 658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o Zedong and the Long March (p. 66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bilizing Women for Communism (p. 669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stituting Manpower for Machinery (p. 67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Hydrogen Bomb (p. 677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zechoslovakia, 1968 (p. 68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fter Communism in China (p. 68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A7B-A4B5-4600-BD52-1FB3E439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800-14A0-4E4D-AE8D-0A4C388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D9B-9452-471A-89D3-96BB9C9D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F1C-9E49-4E79-BC98-3FF02C8D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D1C-5827-4781-9DC8-2F62634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4D3-5BB0-41A7-81EA-70A304C8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E84-DF98-4B56-B29A-CC8CA573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EF0-BE44-438C-9900-3B4811CF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08A-AF10-4260-9057-4944A8B9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56A-7AFA-4CE4-BB62-B8F33C1B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7BB-EA3C-4358-9204-5163188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421-4457-4F66-8BF2-03ED66F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E48-9B0F-45E0-AF67-1E35E8FB88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Ways of the World: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 Brief Global History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11480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 and Fall of World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6920" y="643104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 © 2009 by Bedford/St. Martin’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904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W. Str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ap 22-3 (inset)"/>
          <p:cNvPicPr/>
          <p:nvPr/>
        </p:nvPicPr>
        <p:blipFill>
          <a:blip r:embed="rId1"/>
          <a:stretch/>
        </p:blipFill>
        <p:spPr>
          <a:xfrm>
            <a:off x="1663560" y="165240"/>
            <a:ext cx="5819760" cy="6532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p 22-3"/>
          <p:cNvPicPr/>
          <p:nvPr/>
        </p:nvPicPr>
        <p:blipFill>
          <a:blip r:embed="rId1"/>
          <a:stretch/>
        </p:blipFill>
        <p:spPr>
          <a:xfrm>
            <a:off x="304920" y="457200"/>
            <a:ext cx="8531280" cy="594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22-4"/>
          <p:cNvPicPr/>
          <p:nvPr/>
        </p:nvPicPr>
        <p:blipFill>
          <a:blip r:embed="rId1"/>
          <a:stretch/>
        </p:blipFill>
        <p:spPr>
          <a:xfrm>
            <a:off x="304920" y="507960"/>
            <a:ext cx="8531280" cy="5856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mage, p658"/>
          <p:cNvPicPr/>
          <p:nvPr/>
        </p:nvPicPr>
        <p:blipFill>
          <a:blip r:embed="rId1"/>
          <a:stretch/>
        </p:blipFill>
        <p:spPr>
          <a:xfrm>
            <a:off x="2082960" y="165240"/>
            <a:ext cx="4971960" cy="65325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age, p665"/>
          <p:cNvPicPr/>
          <p:nvPr/>
        </p:nvPicPr>
        <p:blipFill>
          <a:blip r:embed="rId1"/>
          <a:stretch/>
        </p:blipFill>
        <p:spPr>
          <a:xfrm>
            <a:off x="368280" y="165240"/>
            <a:ext cx="8404200" cy="6532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, p669"/>
          <p:cNvPicPr/>
          <p:nvPr/>
        </p:nvPicPr>
        <p:blipFill>
          <a:blip r:embed="rId1"/>
          <a:stretch/>
        </p:blipFill>
        <p:spPr>
          <a:xfrm>
            <a:off x="2425680" y="165240"/>
            <a:ext cx="4291200" cy="65325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, p673"/>
          <p:cNvPicPr/>
          <p:nvPr/>
        </p:nvPicPr>
        <p:blipFill>
          <a:blip r:embed="rId1"/>
          <a:stretch/>
        </p:blipFill>
        <p:spPr>
          <a:xfrm>
            <a:off x="2565360" y="165240"/>
            <a:ext cx="4022640" cy="65325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image, p677"/>
          <p:cNvPicPr/>
          <p:nvPr/>
        </p:nvPicPr>
        <p:blipFill>
          <a:blip r:embed="rId1"/>
          <a:stretch/>
        </p:blipFill>
        <p:spPr>
          <a:xfrm>
            <a:off x="304920" y="431640"/>
            <a:ext cx="8531280" cy="6002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mage, p680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22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age, p683"/>
          <p:cNvPicPr/>
          <p:nvPr/>
        </p:nvPicPr>
        <p:blipFill>
          <a:blip r:embed="rId1"/>
          <a:stretch/>
        </p:blipFill>
        <p:spPr>
          <a:xfrm>
            <a:off x="304920" y="368280"/>
            <a:ext cx="8531280" cy="61308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Rev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a Path to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: Revolution in a Singl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 Prolonged Revolutionary Str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Socialism in Two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Femi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sm in the Country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m and Industri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arch for En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t versus W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lobal Divide and a Cold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Conflict and the Cold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Standoff and Third World Ri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States: Superpower of the West, 1945–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World, 1950s–197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the End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: Abandoning Communism and Maintaining th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viet Union: The Collapse of Communism and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2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and Fall of World Communism, 1917–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1 Russia in 1917 (p. 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2 The Rise of Communism in China (p. 6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3 The Global Cold War (p. 6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22.4 The Collapse of the Soviet Empire (p. 6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in (p. 6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 Zedong and the Long March (p. 6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zing Women for Communism (p. 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ng Manpower for Machinery (p. 6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ydrogen Bomb (p. 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zechoslovakia, 1968 (p. 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munism in China (p. 6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p 22-1"/>
          <p:cNvPicPr/>
          <p:nvPr/>
        </p:nvPicPr>
        <p:blipFill>
          <a:blip r:embed="rId1"/>
          <a:stretch/>
        </p:blipFill>
        <p:spPr>
          <a:xfrm>
            <a:off x="304920" y="279360"/>
            <a:ext cx="8531280" cy="6313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 22-2"/>
          <p:cNvPicPr/>
          <p:nvPr/>
        </p:nvPicPr>
        <p:blipFill>
          <a:blip r:embed="rId1"/>
          <a:stretch/>
        </p:blipFill>
        <p:spPr>
          <a:xfrm>
            <a:off x="1434960" y="165240"/>
            <a:ext cx="6283440" cy="6532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Robert W. Strayer</dc:creator>
  <dc:description/>
  <dc:language>en-US</dc:language>
  <cp:lastModifiedBy>Legion</cp:lastModifiedBy>
  <dcterms:modified xsi:type="dcterms:W3CDTF">2017-07-05T12:45:24Z</dcterms:modified>
  <cp:revision>79</cp:revision>
  <dc:subject/>
  <dc:title>Ways of the World</dc:title>
</cp:coreProperties>
</file>